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image5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327-D474-4DF6-B54C-7D5B5037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99FB-05A9-45A1-B7EF-6A146202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BF04-AFCA-4B01-B2CF-1932E17F8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4F7-7A1C-4195-9837-868E21DE7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9FE4-81C0-43B4-8EA0-6EEC4914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69F8-BC4E-4EA4-AE3A-466225DC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E519-8856-4181-95FC-403017B6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29D1-420E-45BA-A370-B02157E5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5C66C-77A8-4D3E-ABCC-39B717AEC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43610-5322-431E-B54F-5265925C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F7D-2604-4104-A48B-C113D08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24F0-6ED7-4FC4-8188-2CBD6A47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55D-F478-4BFC-9748-67283873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31FC-9C37-4D57-AD9C-01EED3A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A2E8-55C2-427E-A42A-6EA0475D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3683-6EE6-4C5D-9F71-A32B7C4C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FE45-70D5-4185-B8E6-7BB77209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C35-ADB3-4A47-8446-A9B9AC36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0A6D-8AC4-4C63-9F4B-09A246E9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BD34-4898-41DB-A634-DE96C20D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3BA-A509-4C01-8F04-8E723057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BF4C-77E2-47A8-B83E-305B5FD1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7260-603B-46BA-9CA6-51EA6A0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B9B-EC94-46AC-B65C-B5F9A703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DC5C-4FAF-4DDF-B00F-71288042DC09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36C7-F264-4442-8CAD-624302A22BD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3"/>
          <p:cNvSpPr/>
          <p:nvPr/>
        </p:nvSpPr>
        <p:spPr>
          <a:xfrm>
            <a:off x="3995640" y="1052640"/>
            <a:ext cx="43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Цивилизация на нашей планет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о сих пор жива благодаря тому, что люди, становясь сильнее, в конечном счёте, умели становиться и мудре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7" descr="C:\Documents and Settings\Администратор\Рабочий стол\19.files\Image1.jpg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50920" y="1700280"/>
            <a:ext cx="3598920" cy="34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395280" y="831240"/>
            <a:ext cx="874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Л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тория возникновения пробле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чины возникнов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Особен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ормы проявле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оследств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533600" y="1828800"/>
          <a:ext cx="6110280" cy="3235320"/>
        </p:xfrm>
        <a:graphic>
          <a:graphicData uri="http://schemas.openxmlformats.org/drawingml/2006/table">
            <a:tbl>
              <a:tblPr/>
              <a:tblGrid>
                <a:gridCol w="1527120"/>
                <a:gridCol w="1527120"/>
                <a:gridCol w="1528920"/>
                <a:gridCol w="1527120"/>
              </a:tblGrid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eng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ильные сторон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eak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слабые стороны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pportunitie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возможност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ea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риски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345600"/>
            <a:ext cx="8072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WOT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анали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Rectangle 2" descr=""/>
          <p:cNvPicPr/>
          <p:nvPr/>
        </p:nvPicPr>
        <p:blipFill>
          <a:blip r:embed="rId1"/>
          <a:stretch/>
        </p:blipFill>
        <p:spPr>
          <a:xfrm>
            <a:off x="682560" y="-6480"/>
            <a:ext cx="7785000" cy="15908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Пессимистический прогноз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: глобальный ресурсный, экологический, продовольственный кризис. (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анг. уч. Т.Мальтус)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Оптимистический прогноз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: недра Земли, Мировой океан и космическое пространство содержат ещё не освоенные сырьевые и энергетические ресурсы. Сокращение военных расходов и установление мира на Земле станут жизненной необходимостью, а значит откроется путь к устойчивому экономическому процветанию.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(нем. Уч. Фриц Бааде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Нейтральный прогноз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: невозможно с определенностью сказать, приведут ли глобальные тенденции к  катастрофам или будут предотвращены  достижениями человеческой приспособляемости. </a:t>
            </a:r>
            <a:r>
              <a:rPr b="0" i="1" lang="ru-RU" sz="2200" spc="-1" strike="noStrike">
                <a:solidFill>
                  <a:srgbClr val="ffffff"/>
                </a:solidFill>
                <a:latin typeface="Times New Roman"/>
              </a:rPr>
              <a:t>(ам. уч. Пол Кеннеди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7200" y="228600"/>
            <a:ext cx="990720" cy="99072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eb966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87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988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дно существительн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ва глагол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ри прилагательны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етафор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50880" indent="-514440">
              <a:spcBef>
                <a:spcPts val="11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инони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0560" y="62064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ДОЛ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НИЯ                 85%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НОШЕНИЯ С РОДИТЕЛЯМИ                 69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ТНОШЕНИЯ СО СВЕРСТНИКАМИ        51%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ДАЧА ВЫПУСКНЫХ ЭКЗАМЕНОВ           63%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БЛЕМА ПРОВЕДЕНИЯ СВОБОДНОГО ВРЕМЕНИ                                                             8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ЕРИАЛЬНАЯ ПРОБЛЕМА                     83%                                             ДРУГОЕ                                                                 41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396720" y="-6480"/>
            <a:ext cx="8601120" cy="2779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Цель уро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: обобщить знания о глобальных проблемах современности, выделить их характерные черты, выяснить необходимые условия для их реш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vernadsky"/>
          <p:cNvPicPr/>
          <p:nvPr/>
        </p:nvPicPr>
        <p:blipFill>
          <a:blip r:embed="rId1"/>
          <a:stretch/>
        </p:blipFill>
        <p:spPr>
          <a:xfrm>
            <a:off x="539640" y="1484280"/>
            <a:ext cx="2808360" cy="3313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3492360" y="900720"/>
            <a:ext cx="5400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Русский   ученый Вернадский  в  1944 год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ысказал мысль о том, что деятельность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еловека приобретает масштаб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поставимые  с   мощью природных си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Это позволило е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ставить   вопро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 перестройке биосферы в  ноосфер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(сферу   деятельности разум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755640" y="68616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лобальные проблемы –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совокупность проблем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Calibri"/>
              </a:rPr>
              <a:t>человечества, возникших во                   второй половине ХХ века, угрожающих существованию мировой    цивилизации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208080" y="268200"/>
            <a:ext cx="8972280" cy="17985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"/>
          <p:cNvSpPr/>
          <p:nvPr/>
        </p:nvSpPr>
        <p:spPr>
          <a:xfrm>
            <a:off x="826920" y="26798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циально-полит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циально-эконом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социально-экологическ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- проблемы челове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7:31:52Z</dcterms:created>
  <dc:creator>Светлана</dc:creator>
  <dc:description/>
  <dc:language>en-US</dc:language>
  <cp:lastModifiedBy>User</cp:lastModifiedBy>
  <dcterms:modified xsi:type="dcterms:W3CDTF">2011-02-10T14:57:17Z</dcterms:modified>
  <cp:revision>16</cp:revision>
  <dc:subject/>
  <dc:title>Слайд 1</dc:title>
</cp:coreProperties>
</file>